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A5575-1E23-4DE8-BD6F-8DD293A70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B26A-037A-4266-AE1C-B9AEC3A24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01715-99FD-4CFA-8B7F-4D5BBFC8F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03EFB-4D64-46C1-A858-47DA69A8E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1029-4618-45F4-AB12-E3B22BCD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D271-8A8D-4BD3-9FDA-D9B88EAF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6B95-9C0F-405C-8D83-F1D2B7AD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3D33-71C1-4C0E-BA8B-1DDE6C1A1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4169-7021-49FD-BAEB-4DEBE949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B774F-D20B-4693-A471-58D89F74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04EC-5100-4409-BFDD-A6D5D901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C54E-8527-4BD2-9FDE-8A6157E28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EF8E-4EA4-4151-AB5E-A5E3F2CAA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in’t I a Woman – Sojourner Truth</a:t>
            </a:r>
            <a:br>
              <a:rPr sz="4400"/>
            </a:br>
            <a:r>
              <a:rPr b="0" lang="en-US" sz="4400" spc="-1" strike="noStrike">
                <a:solidFill>
                  <a:srgbClr val="ff0303"/>
                </a:solidFill>
                <a:latin typeface="Times New Roman"/>
              </a:rPr>
              <a:t>After Being Convicted – Susan B. Anthon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bbey Spiez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Tom Gra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ean Micha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epeti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d Ain’t I a Woman?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Ques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d Ain’t I A Woman?</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ut what’s all this here talking about</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taphor</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If my cup won’t hold a pint, and yours holds a quart, wouldn’t you be mean not to let me have my little half measure full?” (3</a:t>
            </a:r>
            <a:r>
              <a:rPr b="0" lang="en-US" sz="3200" spc="-1" strike="noStrike" baseline="30000">
                <a:solidFill>
                  <a:srgbClr val="ff0303"/>
                </a:solidFill>
                <a:latin typeface="Times New Roman"/>
                <a:ea typeface="Times New Roman"/>
              </a:rPr>
              <a:t>r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Biblical Allusion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From God and a woman! Man had nothing to do with Him.”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If the first woman God ever made was strong enough to turn the world upside down all alone,” (6</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ppeal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Pa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E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Lo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ath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Look at me Look at my arm! I have plowed and planted and gathered into barns and no man could head me. . .And ain't I a woman? I could work as much and eat as much as a man--when I could get to it--and bear the lash as well and ain't I a woman? I have born 13 children and seen most all sold into slavery and when I cried out a mother's grief none but Jesus heard me. . .and ain't I a woman?” (2</a:t>
            </a:r>
            <a:r>
              <a:rPr b="0" lang="en-US" sz="2800" spc="-1" strike="noStrike" baseline="30000">
                <a:solidFill>
                  <a:srgbClr val="ff0303"/>
                </a:solidFill>
                <a:latin typeface="Times New Roman"/>
                <a:ea typeface="Times New Roman"/>
              </a:rPr>
              <a:t>nd</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1600" indent="-2916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If the first woman God ever made was strong enough to turn the world upside down, all alone together women ought to be able to turn it rightside up again.” (5</a:t>
            </a:r>
            <a:r>
              <a:rPr b="0" lang="en-US" sz="2800" spc="-1" strike="noStrike" baseline="30000">
                <a:solidFill>
                  <a:srgbClr val="ff0303"/>
                </a:solidFill>
                <a:latin typeface="Times New Roman"/>
                <a:ea typeface="Times New Roman"/>
              </a:rPr>
              <a:t>th</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Eth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at little man in black there say a woman can't have as much rights as a man cause Christ wasn't a woman”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Log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From God and a woman! Man had nothing to do with him!”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fter Being Convicted</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HISTORICAL CONTEX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SPA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RHETORICAL DEVIC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APPEAL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Historical Contex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She traveled through the US and to Europe giving 75-100 speeches a year for 45 years</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nthony was one of seven children born in West Grove, Massachusetts </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She was born into a Quaker Society but left it as she saw hypocrisy in it</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nthony joined with Stanton in organizing the first women's state temperance society in America after being refused admission to a previous convention on account of her sex in 1851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in’t I a Woma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HISTORICAL BACKGROUND</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SPA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RHETORIC DEVIC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APPE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Speaker</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usan B. Anthony in 1873.</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thony was born in 1820 into a strict Quaker household.</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egan a public crusade on behalf of tempe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urpo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 persuasive and motivational speech arguing that women have just as much a right to vote as men d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udience</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New York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dium</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Open Venue</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tump Speech throughout 29 postal districts in Monroe County, New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Devic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llus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naphora</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Repetit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Rhetorical Qu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l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e preamble of the Federal Constitution says,”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naphora</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them this government”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epeti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Oligarchs--member of a small governing faction (ruling by a few).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Ques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re women persons?” (7</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ppeal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Log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E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Pat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Historical Contex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ojourner was born a slave and gained her freedom in 1827</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peech was made in response to a male audience member</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The speech was not generally accepted at the convention she spoke it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Logos</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144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Times New Roman"/>
              </a:rPr>
              <a:t>¨</a:t>
            </a:r>
            <a:r>
              <a:rPr b="0" lang="en-US" sz="2600" spc="-1" strike="noStrike">
                <a:solidFill>
                  <a:srgbClr val="ff0303"/>
                </a:solidFill>
                <a:latin typeface="Times New Roman"/>
                <a:ea typeface="Times New Roman"/>
              </a:rPr>
              <a:t>      Susan B. Anthony primarily used logos in her work in order to support her opinion that women had just as much a right to vote as men did.</a:t>
            </a:r>
            <a:endParaRPr b="0" lang="en-US" sz="2600" spc="-1" strike="noStrike">
              <a:solidFill>
                <a:srgbClr val="000000"/>
              </a:solidFill>
              <a:latin typeface="Times New Roman"/>
            </a:endParaRPr>
          </a:p>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303"/>
                </a:solidFill>
                <a:latin typeface="Times New Roman"/>
              </a:rPr>
              <a:t>¨</a:t>
            </a:r>
            <a:r>
              <a:rPr b="0" lang="en-US" sz="2600" spc="-1" strike="noStrike">
                <a:solidFill>
                  <a:srgbClr val="ff0303"/>
                </a:solidFill>
                <a:latin typeface="Times New Roman"/>
                <a:ea typeface="Times New Roman"/>
              </a:rPr>
              <a:t>      “It shall be my work this evening to prove to you that in thus voting, I not only committed no crime, but, instead, simply exercised my citizen's rights, guaranteed to me and all United States citizens by the National Constitution, (1</a:t>
            </a:r>
            <a:r>
              <a:rPr b="0" lang="en-US" sz="2600" spc="-1" strike="noStrike" baseline="30000">
                <a:solidFill>
                  <a:srgbClr val="ff0303"/>
                </a:solidFill>
                <a:latin typeface="Times New Roman"/>
                <a:ea typeface="Times New Roman"/>
              </a:rPr>
              <a:t>st</a:t>
            </a:r>
            <a:r>
              <a:rPr b="0" lang="en-US" sz="2600" spc="-1" strike="noStrike">
                <a:solidFill>
                  <a:srgbClr val="ff0303"/>
                </a:solidFill>
                <a:latin typeface="Times New Roman"/>
                <a:ea typeface="Times New Roman"/>
              </a:rPr>
              <a:t> paragraph)</a:t>
            </a:r>
            <a:br>
              <a:rPr sz="2600"/>
            </a:br>
            <a:r>
              <a:rPr b="0" lang="en-US" sz="2600" spc="-1" strike="noStrike">
                <a:solidFill>
                  <a:srgbClr val="ff0303"/>
                </a:solidFill>
                <a:latin typeface="Times New Roman"/>
                <a:ea typeface="Times New Roman"/>
              </a:rPr>
              <a:t>beyond the power of any state to deny.” (1</a:t>
            </a:r>
            <a:r>
              <a:rPr b="0" lang="en-US" sz="2600" spc="-1" strike="noStrike" baseline="30000">
                <a:solidFill>
                  <a:srgbClr val="ff0303"/>
                </a:solidFill>
                <a:latin typeface="Times New Roman"/>
                <a:ea typeface="Times New Roman"/>
              </a:rPr>
              <a:t>st</a:t>
            </a:r>
            <a:r>
              <a:rPr b="0" lang="en-US" sz="2600" spc="-1" strike="noStrike">
                <a:solidFill>
                  <a:srgbClr val="ff0303"/>
                </a:solidFill>
                <a:latin typeface="Times New Roman"/>
                <a:ea typeface="Times New Roman"/>
              </a:rPr>
              <a:t> paragraph)</a:t>
            </a:r>
            <a:endParaRPr b="0" lang="en-US" sz="2600" spc="-1" strike="noStrike">
              <a:solidFill>
                <a:srgbClr val="000000"/>
              </a:solidFill>
              <a:latin typeface="Times New Roman"/>
            </a:endParaRPr>
          </a:p>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303"/>
                </a:solidFill>
                <a:latin typeface="Times New Roman"/>
              </a:rPr>
              <a:t>¨</a:t>
            </a:r>
            <a:r>
              <a:rPr b="0" lang="en-US" sz="2600" spc="-1" strike="noStrike">
                <a:solidFill>
                  <a:srgbClr val="ff0303"/>
                </a:solidFill>
                <a:latin typeface="Times New Roman"/>
                <a:ea typeface="Times New Roman"/>
              </a:rPr>
              <a:t>      “It was we, the people; not we, the white male citizens; nor yet we, the male citizens; but we, the whole people, who formed the Union.”(3</a:t>
            </a:r>
            <a:r>
              <a:rPr b="0" lang="en-US" sz="2600" spc="-1" strike="noStrike" baseline="30000">
                <a:solidFill>
                  <a:srgbClr val="ff0303"/>
                </a:solidFill>
                <a:latin typeface="Times New Roman"/>
                <a:ea typeface="Times New Roman"/>
              </a:rPr>
              <a:t>rd</a:t>
            </a:r>
            <a:r>
              <a:rPr b="0" lang="en-US" sz="2600" spc="-1" strike="noStrike">
                <a:solidFill>
                  <a:srgbClr val="ff0303"/>
                </a:solidFill>
                <a:latin typeface="Times New Roman"/>
                <a:ea typeface="Times New Roman"/>
              </a:rPr>
              <a:t> paragraph)</a:t>
            </a:r>
            <a:endParaRPr b="0" lang="en-US" sz="2600" spc="-1" strike="noStrike">
              <a:solidFill>
                <a:srgbClr val="000000"/>
              </a:solidFill>
              <a:latin typeface="Times New Roman"/>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Etho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Friends and fellow citizens: I stand before you tonight under indictment for the alleged crime of having voted at the last presidential election, without having a lawful right to vote.” (1</a:t>
            </a:r>
            <a:r>
              <a:rPr b="0" lang="en-US" sz="3200" spc="-1" strike="noStrike" baseline="30000">
                <a:solidFill>
                  <a:srgbClr val="ff0303"/>
                </a:solidFill>
                <a:latin typeface="Times New Roman"/>
                <a:ea typeface="Times New Roman"/>
              </a:rPr>
              <a:t>st</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atho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It is not a republic. It is an odious aristocracy; a hateful oligarchy of sex; the most hateful aristocracy ever established on the face of the globe; an oligarchy of wealth, where the rich govern the poor. An oligarchy of learning, where the educated govern the ignorant, or even an oligarchy of race, where the Saxon rules the African, might be endured; but this oligarchy of sex, which makes father, brothers, husband, sons, the oligarchs over the mother and sisters, the wife and daughters, of every household - which ordains all men sovereigns, all women subjects, carries dissension, discord, and rebellion into every home of the nation.” (5</a:t>
            </a:r>
            <a:r>
              <a:rPr b="0" lang="en-US" sz="2800" spc="-1" strike="noStrike" baseline="30000">
                <a:solidFill>
                  <a:srgbClr val="ff0303"/>
                </a:solidFill>
                <a:latin typeface="Times New Roman"/>
                <a:ea typeface="Times New Roman"/>
              </a:rPr>
              <a:t>th</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Ques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030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is one thing that Anthony references in her speech?</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2.</a:t>
            </a:r>
            <a:r>
              <a:rPr b="0" lang="en-US" sz="3200" spc="-1" strike="noStrike">
                <a:solidFill>
                  <a:srgbClr val="ff0303"/>
                </a:solidFill>
                <a:latin typeface="Times New Roman"/>
              </a:rPr>
              <a:t>	</a:t>
            </a:r>
            <a:r>
              <a:rPr b="0" lang="en-US" sz="3200" spc="-1" strike="noStrike">
                <a:solidFill>
                  <a:srgbClr val="ff0303"/>
                </a:solidFill>
                <a:latin typeface="Times New Roman"/>
              </a:rPr>
              <a:t>How many years did she give many speeches for? </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es she relate this discrimination to, and is also fighting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0303"/>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Do you think this speech would have been as effective if she did not use anaphora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ff0303"/>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es Anthony have against the government?</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ff0303"/>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are two rhetoric questions used in “Ain’t I a woman?”</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990720"/>
            <a:ext cx="7772400" cy="5029200"/>
          </a:xfrm>
          <a:prstGeom prst="rect">
            <a:avLst/>
          </a:prstGeom>
          <a:noFill/>
          <a:ln w="0">
            <a:noFill/>
          </a:ln>
        </p:spPr>
        <p:txBody>
          <a:bodyPr lIns="90000" rIns="90000" tIns="46800" bIns="46800" anchor="t">
            <a:normAutofit/>
          </a:bodyPr>
          <a:p>
            <a:pPr marL="609480" indent="-609480">
              <a:spcBef>
                <a:spcPts val="799"/>
              </a:spcBef>
              <a:buClr>
                <a:srgbClr val="ff0303"/>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 you think the purpose of the allusion is in “Ain’t I a woman?”</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y do you think Sojourner Truth uses repetition in her speech?</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is the main point that Sojourner is trying to make in her spee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ea typeface="Times New Roman"/>
              </a:rPr>
              <a:t>10.  T  /  F  Sojourner believes that woman can work just as hard as ma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Speaker</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ojourner Truth in 1851.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orn in 1797, she had great presence as a result of her very low voice and tall height (5ft. 11).</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he was an ex-slave turned abolitionis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ruth spoke for African American rights, but was also an advocate for Womens righ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urpos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gather women together for a common cause (their rights).</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speak up for African American wom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udien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omen at the Women’s Con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dium</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Held at Women’s Convention in Akron, Oh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 Devic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rgumenta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Repeti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Rhetorical Ques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Metaphor</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Biblical All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rgumenta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at man over there says that women need to be helped into carriages, and lifted over ditches, and to have the best place everywhere. Nobody ever helps me into carriages, or over mud-puddles, or gives me any best place! And ain't I a woman?”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2:57:52Z</dcterms:created>
  <dc:creator>Thomas Michael Gray</dc:creator>
  <dc:description/>
  <dc:language>en-US</dc:language>
  <cp:lastModifiedBy>Spiezio</cp:lastModifiedBy>
  <dcterms:modified xsi:type="dcterms:W3CDTF">2008-04-18T02:32:14Z</dcterms:modified>
  <cp:revision>1</cp:revision>
  <dc:subject/>
  <dc:title>Ain’t I a Woman – Sojourner Truth After Being Convicted – Susan B. Anthony</dc:title>
</cp:coreProperties>
</file>